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F1E-1BFD-41FE-BBE3-0A7DE868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B97-12EE-4275-8766-4ADBBB43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BF4-0041-4D82-93A2-EC43BF8A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2AA-1003-4F4A-B8BF-BA8000A8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F9A-1F08-4BC5-961C-7532D284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90D-2379-4774-BFE2-889C8BA7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15D-A0AE-4E52-8C07-2D90A408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DE0-43CD-44C2-9A2B-E08ADC51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E21-0906-4AC2-B689-1C732BD6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185-2FD7-440A-85CD-68B29455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B440-B469-455B-9F03-454E8C34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5501-DA47-43AF-ABB8-8C6C2159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392F-5386-4BD9-A57C-233C78C69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1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your holy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honour and glory are you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and for 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13:10Z</dcterms:created>
  <dc:creator>Anon Anon</dc:creator>
  <dc:description/>
  <dc:language>en-US</dc:language>
  <cp:lastModifiedBy>Anon Anon</cp:lastModifiedBy>
  <dcterms:modified xsi:type="dcterms:W3CDTF">2005-08-09T05:25:22Z</dcterms:modified>
  <cp:revision>11</cp:revision>
  <dc:subject/>
  <dc:title>PowerPoint Presentation</dc:title>
</cp:coreProperties>
</file>